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5.xml"/><Relationship Id="rId3" Type="http://schemas.openxmlformats.org/officeDocument/2006/relationships/slide" Target="slide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9" idx="3"/>
            <a:endCxn id="100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1" name=""/>
          <p:cNvCxnSpPr>
            <a:stCxn id="99" idx="3"/>
            <a:endCxn id="102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9" idx="3"/>
            <a:endCxn id="103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lorien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5480" y="5493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wichts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wichts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38240" y="549360"/>
            <a:ext cx="52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wichts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7" idx="3"/>
            <a:endCxn id="16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tein-Losing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phropath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lukosur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„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2" idx="3"/>
            <a:endCxn id="16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6" name=""/>
          <p:cNvCxnSpPr>
            <a:stCxn id="162" idx="3"/>
            <a:endCxn id="16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999720" y="549360"/>
            <a:ext cx="40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ewichts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9" idx="3"/>
            <a:endCxn id="17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3" name=""/>
          <p:cNvCxnSpPr>
            <a:stCxn id="169" idx="3"/>
            <a:endCxn id="17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1056600" y="549360"/>
            <a:ext cx="58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wichts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lorienverbrauch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0480" y="549360"/>
            <a:ext cx="74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wichts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verbrauch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offwechse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6" idx="3"/>
            <a:endCxn id="17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elastung ↑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kta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82" idx="3"/>
            <a:endCxn id="183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yre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9960" y="549360"/>
            <a:ext cx="73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wichts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verbrauch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toffwechsel ↑ &gt; 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3"/>
            <a:endCxn id="188" idx="1"/>
          </p:cNvCxnSpPr>
          <p:nvPr/>
        </p:nvCxnSpPr>
        <p:spPr>
          <a:xfrm flipV="1">
            <a:off x="3313080" y="2731680"/>
            <a:ext cx="2689920" cy="13500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9" name=""/>
          <p:cNvCxnSpPr>
            <a:stCxn id="186" idx="3"/>
            <a:endCxn id="19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1" name=""/>
          <p:cNvCxnSpPr>
            <a:stCxn id="186" idx="3"/>
            <a:endCxn id="192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7360" y="549360"/>
            <a:ext cx="67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wichts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Kalorienverbrauch ↑ &gt; „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2168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ächt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6640" y="549360"/>
            <a:ext cx="692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Gewichtsverlust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Kalorienverbrauch ↑ &gt; „jemand frisst mit“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5" idx="3"/>
            <a:endCxn id="19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rofilar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agen-Darm-Würm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ktoparasit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assimil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gehalt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1" name=""/>
          <p:cNvCxnSpPr>
            <a:stCxn id="107" idx="3"/>
            <a:endCxn id="10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987120" y="549360"/>
            <a:ext cx="40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wichts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lorie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4" idx="3"/>
            <a:endCxn id="11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8" name=""/>
          <p:cNvCxnSpPr>
            <a:stCxn id="114" idx="3"/>
            <a:endCxn id="11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1058400" y="549360"/>
            <a:ext cx="59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ewichts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3"/>
            <a:endCxn id="123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4" name=""/>
          <p:cNvCxnSpPr>
            <a:stCxn id="121" idx="3"/>
            <a:endCxn id="125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okri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kreas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säure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e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16720" y="549360"/>
            <a:ext cx="74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wichts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9" idx="3"/>
            <a:endCxn id="13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23200" y="549360"/>
            <a:ext cx="75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ewichts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3"/>
            <a:endCxn id="135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6" name=""/>
          <p:cNvCxnSpPr>
            <a:stCxn id="133" idx="3"/>
            <a:endCxn id="137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parasi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22480" y="549360"/>
            <a:ext cx="77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wichts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alabsorp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ädigung der 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gehalt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85680" y="549360"/>
            <a:ext cx="74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wichts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aloriengehalt des 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0" idx="3"/>
            <a:endCxn id="14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Fut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ür andere Spezie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Futter fü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Altersstufe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tungsgrupp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egane Fütter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5" idx="3"/>
            <a:endCxn id="14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9" name=""/>
          <p:cNvCxnSpPr>
            <a:stCxn id="145" idx="3"/>
            <a:endCxn id="14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992880" y="54936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Gewichts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7880" y="549360"/>
            <a:ext cx="53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wichts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über den 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2" idx="3"/>
            <a:endCxn id="15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tein-Losing-Enteropath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2:50:22Z</dcterms:modified>
  <cp:revision>329</cp:revision>
  <dc:subject/>
  <dc:title>Vorstellung einer Neuheit</dc:title>
</cp:coreProperties>
</file>